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1909-812F-4CCD-8549-57700EA24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63D4-FA1E-4E68-84E2-480AEA0C4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FCC-3258-450D-A804-961EC0F2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686-99B6-470C-8020-BDF6B608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8BD-6132-4232-AE49-7938555A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80B-8D64-43CF-B708-7A9B6691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7562-0D6A-4028-84EB-E968F985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688F-F2F5-40B2-8E8D-F400922B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1D76-F25B-46E4-9832-1835851B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759A-094E-4169-9AE9-701AF63E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8CC3-AD87-4D47-8930-B178BDF2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24F5-FC64-4131-A75E-C38299D6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042F-CA77-4E69-B0D6-A8272CA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314-7AA6-48F6-ADCE-DDE7977E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0957-0D2C-4CE4-B15F-D21C0297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DBA8-2092-4490-9187-3AB8190C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E5D4-3EE9-482D-BA6E-CF85268F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63DB-AD65-4612-B2E5-E643D915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6EB2-DA69-4523-8CD7-FB203BEF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F87-16F4-4E36-96D7-D5BC4359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7C3-6E27-4C37-BB1C-C5D512D9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783-5116-40CA-8A59-42674B3B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685-5B10-4B1F-9230-4ACD363E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5E2-D285-4720-8E50-013370F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9D9-D90D-4981-B264-69AE0384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892-EF54-408B-BBF0-7D395142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D65-122A-42B0-92D4-02CE674C4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1432-C2E8-405F-BBB9-31CCB643AD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gYPeeABoUs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 S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905120"/>
            <a:ext cx="30592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rm-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2"/>
          <p:cNvGrpSpPr/>
          <p:nvPr/>
        </p:nvGrpSpPr>
        <p:grpSpPr>
          <a:xfrm>
            <a:off x="1447920" y="1600200"/>
            <a:ext cx="6476760" cy="2209680"/>
            <a:chOff x="1447920" y="1600200"/>
            <a:chExt cx="6476760" cy="2209680"/>
          </a:xfrm>
        </p:grpSpPr>
        <p:pic>
          <p:nvPicPr>
            <p:cNvPr id="120" name="Picture 4" descr="MC900434841[1]"/>
            <p:cNvPicPr/>
            <p:nvPr/>
          </p:nvPicPr>
          <p:blipFill>
            <a:blip r:embed="rId1"/>
            <a:stretch/>
          </p:blipFill>
          <p:spPr>
            <a:xfrm>
              <a:off x="3200400" y="1600200"/>
              <a:ext cx="1577880" cy="186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Group 4"/>
            <p:cNvGrpSpPr/>
            <p:nvPr/>
          </p:nvGrpSpPr>
          <p:grpSpPr>
            <a:xfrm>
              <a:off x="1447920" y="1600200"/>
              <a:ext cx="6476760" cy="2209680"/>
              <a:chOff x="1447920" y="1600200"/>
              <a:chExt cx="6476760" cy="2209680"/>
            </a:xfrm>
          </p:grpSpPr>
          <p:sp>
            <p:nvSpPr>
              <p:cNvPr id="122" name="TextBox 3"/>
              <p:cNvSpPr/>
              <p:nvPr/>
            </p:nvSpPr>
            <p:spPr>
              <a:xfrm>
                <a:off x="5791320" y="1600200"/>
                <a:ext cx="21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MES O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Box 5"/>
              <p:cNvSpPr/>
              <p:nvPr/>
            </p:nvSpPr>
            <p:spPr>
              <a:xfrm>
                <a:off x="1447920" y="1752480"/>
                <a:ext cx="21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OES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utoShape 5"/>
              <p:cNvSpPr/>
              <p:nvPr/>
            </p:nvSpPr>
            <p:spPr>
              <a:xfrm>
                <a:off x="3657600" y="3657600"/>
                <a:ext cx="1828800" cy="152280"/>
              </a:xfrm>
              <a:prstGeom prst="rightArrow">
                <a:avLst>
                  <a:gd name="adj1" fmla="val 50000"/>
                  <a:gd name="adj2" fmla="val 133438"/>
                </a:avLst>
              </a:prstGeom>
              <a:solidFill>
                <a:srgbClr val="000000"/>
              </a:solidFill>
              <a:ln w="9360">
                <a:solidFill>
                  <a:srgbClr val="070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5" name="Picture 7" descr="MC900000930[1]"/>
              <p:cNvPicPr/>
              <p:nvPr/>
            </p:nvPicPr>
            <p:blipFill>
              <a:blip r:embed="rId2"/>
              <a:stretch/>
            </p:blipFill>
            <p:spPr>
              <a:xfrm>
                <a:off x="4267080" y="1981080"/>
                <a:ext cx="1451880" cy="1585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TextBox 7"/>
          <p:cNvSpPr/>
          <p:nvPr/>
        </p:nvSpPr>
        <p:spPr>
          <a:xfrm>
            <a:off x="609480" y="411480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draw a symbol to represent each item in the g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cut each item out, using the scissors, and put on the correct side of these organisms for RESPI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iration (the whole truth!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plants AND animals have living cells,  the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ed to do respiration to make energy for those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ts ju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food that their cells e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MC900000930[1]"/>
          <p:cNvPicPr/>
          <p:nvPr/>
        </p:nvPicPr>
        <p:blipFill>
          <a:blip r:embed="rId1"/>
          <a:stretch/>
        </p:blipFill>
        <p:spPr>
          <a:xfrm>
            <a:off x="3352680" y="3276720"/>
            <a:ext cx="1505160" cy="127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MC900434841[1]"/>
          <p:cNvPicPr/>
          <p:nvPr/>
        </p:nvPicPr>
        <p:blipFill>
          <a:blip r:embed="rId2"/>
          <a:stretch/>
        </p:blipFill>
        <p:spPr>
          <a:xfrm>
            <a:off x="4952880" y="3276720"/>
            <a:ext cx="122400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Title 1"/>
          <p:cNvSpPr/>
          <p:nvPr/>
        </p:nvSpPr>
        <p:spPr>
          <a:xfrm>
            <a:off x="4419720" y="4038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emical Equation for Respi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7521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+ glucose</a:t>
            </a:r>
            <a:r>
              <a:rPr b="1" lang="en-US" sz="2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bon dioxide + water + 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ENERGY 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 (ATP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pir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the process of breaking down glucose (in the presence of oxygen) to make ATP ENERG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33520" y="2798640"/>
            <a:ext cx="2666880" cy="459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791320" y="2814480"/>
            <a:ext cx="2666880" cy="459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Arrow Connector 6"/>
          <p:cNvCxnSpPr>
            <a:endCxn id="135" idx="1"/>
          </p:cNvCxnSpPr>
          <p:nvPr/>
        </p:nvCxnSpPr>
        <p:spPr>
          <a:xfrm>
            <a:off x="3200040" y="3030480"/>
            <a:ext cx="2591640" cy="165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iration (the whole truth!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plants AND animals have living cells,  the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ed to do respiration to make energy for those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ts ju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food that their cells e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609480" y="3276720"/>
            <a:ext cx="7925040" cy="1277640"/>
            <a:chOff x="609480" y="3276720"/>
            <a:chExt cx="7925040" cy="1277640"/>
          </a:xfrm>
        </p:grpSpPr>
        <p:sp>
          <p:nvSpPr>
            <p:cNvPr id="140" name="TextBox 3"/>
            <p:cNvSpPr/>
            <p:nvPr/>
          </p:nvSpPr>
          <p:spPr>
            <a:xfrm>
              <a:off x="5773680" y="3502080"/>
              <a:ext cx="274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Times New Roman"/>
                </a:rPr>
                <a:t>COMES 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Box 5"/>
            <p:cNvSpPr/>
            <p:nvPr/>
          </p:nvSpPr>
          <p:spPr>
            <a:xfrm>
              <a:off x="609480" y="3502080"/>
              <a:ext cx="274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Times New Roman"/>
                </a:rPr>
                <a:t>GOES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1001520" y="3870360"/>
              <a:ext cx="2535120" cy="436320"/>
            </a:xfrm>
            <a:prstGeom prst="rightArrow">
              <a:avLst>
                <a:gd name="adj1" fmla="val 50000"/>
                <a:gd name="adj2" fmla="val 171671"/>
              </a:avLst>
            </a:prstGeom>
            <a:solidFill>
              <a:srgbClr val="000000"/>
            </a:solidFill>
            <a:ln w="9360">
              <a:solidFill>
                <a:srgbClr val="070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5999400" y="3870360"/>
              <a:ext cx="2535120" cy="436320"/>
            </a:xfrm>
            <a:prstGeom prst="rightArrow">
              <a:avLst>
                <a:gd name="adj1" fmla="val 50000"/>
                <a:gd name="adj2" fmla="val 171671"/>
              </a:avLst>
            </a:prstGeom>
            <a:solidFill>
              <a:srgbClr val="000000"/>
            </a:solidFill>
            <a:ln w="9360">
              <a:solidFill>
                <a:srgbClr val="070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Picture 7" descr="MC900000930[1]"/>
            <p:cNvPicPr/>
            <p:nvPr/>
          </p:nvPicPr>
          <p:blipFill>
            <a:blip r:embed="rId1"/>
            <a:stretch/>
          </p:blipFill>
          <p:spPr>
            <a:xfrm>
              <a:off x="3352680" y="3276720"/>
              <a:ext cx="1505520" cy="127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4" descr="MC900434841[1]"/>
          <p:cNvPicPr/>
          <p:nvPr/>
        </p:nvPicPr>
        <p:blipFill>
          <a:blip r:embed="rId2"/>
          <a:stretch/>
        </p:blipFill>
        <p:spPr>
          <a:xfrm>
            <a:off x="4952880" y="3276720"/>
            <a:ext cx="1224000" cy="1447560"/>
          </a:xfrm>
          <a:prstGeom prst="rect">
            <a:avLst/>
          </a:prstGeom>
          <a:ln w="0">
            <a:noFill/>
          </a:ln>
        </p:spPr>
      </p:pic>
      <p:sp>
        <p:nvSpPr>
          <p:cNvPr id="146" name="Title 1"/>
          <p:cNvSpPr/>
          <p:nvPr/>
        </p:nvSpPr>
        <p:spPr>
          <a:xfrm>
            <a:off x="4419720" y="4038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ext book page 95 and answer the questions on your work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ortance of Respira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M403_13C"/>
          <p:cNvPicPr/>
          <p:nvPr/>
        </p:nvPicPr>
        <p:blipFill>
          <a:blip r:embed="rId1"/>
          <a:srcRect l="10677" t="0" r="0" b="26334"/>
          <a:stretch/>
        </p:blipFill>
        <p:spPr>
          <a:xfrm>
            <a:off x="0" y="1371600"/>
            <a:ext cx="4915080" cy="48592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76920" y="1219320"/>
            <a:ext cx="412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ENERGY (ATP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ENERGY (ATP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ows cells to build and move things around to keep the organism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, ALL living things need and use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ENERGY (ATP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 the Conne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ok over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iagram on pg. 96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ad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IRST paragraph on pg. 97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, then answer this ques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he relationship between photosynthesis and respir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Content Placeholder 3" descr=""/>
          <p:cNvPicPr/>
          <p:nvPr/>
        </p:nvPicPr>
        <p:blipFill>
          <a:blip r:embed="rId1"/>
          <a:srcRect l="1235" t="0" r="-202" b="28062"/>
          <a:stretch/>
        </p:blipFill>
        <p:spPr>
          <a:xfrm>
            <a:off x="31680" y="1440"/>
            <a:ext cx="9112320" cy="66232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3124080" y="533520"/>
            <a:ext cx="2819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605"/>
                </a:solidFill>
                <a:latin typeface="Times New Roman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6477120" y="1600200"/>
            <a:ext cx="2666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3124080" y="6172200"/>
            <a:ext cx="2895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70605"/>
                </a:solidFill>
                <a:latin typeface="Times New Roman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4572000" y="411480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Mitochond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3505320" y="3505320"/>
            <a:ext cx="16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152280" y="3352680"/>
            <a:ext cx="312444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70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Water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0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Carbon Dioxide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 (CO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6858000" y="3429000"/>
            <a:ext cx="2057400" cy="12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70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Oxygen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 (0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Glucose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/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70605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7060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477120" y="5562720"/>
            <a:ext cx="1981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304920" y="6027840"/>
            <a:ext cx="1600200" cy="825480"/>
          </a:xfrm>
          <a:prstGeom prst="rect">
            <a:avLst/>
          </a:prstGeom>
          <a:solidFill>
            <a:srgbClr val="ff6600">
              <a:alpha val="93000"/>
            </a:srgbClr>
          </a:solidFill>
          <a:ln w="9360">
            <a:solidFill>
              <a:srgbClr val="070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ATP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7200" y="533520"/>
            <a:ext cx="817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0" y="99072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Times New Roman"/>
              </a:rPr>
              <a:t>(Light Ener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Bent-Up Arrow 15"/>
          <p:cNvSpPr/>
          <p:nvPr/>
        </p:nvSpPr>
        <p:spPr>
          <a:xfrm>
            <a:off x="5105520" y="2895480"/>
            <a:ext cx="304560" cy="914400"/>
          </a:xfrm>
          <a:custGeom>
            <a:avLst/>
            <a:gdLst/>
            <a:ahLst/>
            <a:rect l="l" t="t" r="r" b="b"/>
            <a:pathLst>
              <a:path w="304800" h="914400">
                <a:moveTo>
                  <a:pt x="0" y="838200"/>
                </a:moveTo>
                <a:lnTo>
                  <a:pt x="190500" y="838200"/>
                </a:lnTo>
                <a:lnTo>
                  <a:pt x="190500" y="152400"/>
                </a:lnTo>
                <a:lnTo>
                  <a:pt x="152400" y="152400"/>
                </a:lnTo>
                <a:lnTo>
                  <a:pt x="228600" y="0"/>
                </a:lnTo>
                <a:lnTo>
                  <a:pt x="304800" y="152400"/>
                </a:lnTo>
                <a:lnTo>
                  <a:pt x="266700" y="152400"/>
                </a:lnTo>
                <a:lnTo>
                  <a:pt x="266700" y="914400"/>
                </a:lnTo>
                <a:lnTo>
                  <a:pt x="0" y="914400"/>
                </a:lnTo>
                <a:lnTo>
                  <a:pt x="0" y="838200"/>
                </a:lnTo>
                <a:close/>
              </a:path>
            </a:pathLst>
          </a:custGeom>
          <a:solidFill>
            <a:srgbClr val="070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own Arrow 19"/>
          <p:cNvSpPr/>
          <p:nvPr/>
        </p:nvSpPr>
        <p:spPr>
          <a:xfrm>
            <a:off x="4952880" y="4572000"/>
            <a:ext cx="2286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70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3505320" y="0"/>
            <a:ext cx="5638680" cy="459720"/>
          </a:xfrm>
          <a:prstGeom prst="rect">
            <a:avLst/>
          </a:prstGeom>
          <a:solidFill>
            <a:srgbClr val="3366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Draw it (Use the whole page – sideway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124080" y="533520"/>
            <a:ext cx="4496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605"/>
                </a:solidFill>
                <a:latin typeface="Times New Roman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ease write a sentence using at least 3 of the following word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hotosynthesis, reaction, sugar, sun, water, carbon dioxide, oxygen, products, reactants, pla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ll out the chart belo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754200"/>
          <a:ext cx="9144000" cy="6141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Photosynthe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Respi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Reactants (al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Products (al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*Major Product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rganism 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(plant, animal, or b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Where in C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754200"/>
          <a:ext cx="9144000" cy="6141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Photosynthe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Respi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Reactants (al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Carbon Dioxide (CO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Water (H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Sunligh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Glucose (suga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xygen (O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Products (al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Glucose (suga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xygen (O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Carbon Dioxide (CO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Water (H</a:t>
                      </a:r>
                      <a:r>
                        <a:rPr b="1" lang="en-US" sz="2200" spc="-1" strike="noStrike" baseline="-25000">
                          <a:solidFill>
                            <a:srgbClr val="07060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ATP Ener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*Major Product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lucose (suga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 Ener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Organism 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(plant, animal, or b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Plants onl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Bot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(plants and animal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Where in C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Chloropla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70605"/>
                          </a:solidFill>
                          <a:latin typeface="Calibri"/>
                        </a:rPr>
                        <a:t>Mitochond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9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it Sl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1904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chemical reaction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hotosynth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ing what goes in AND what comes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chemical reaction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spi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ing what goes in AND what comes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581280" y="342900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70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3581280" y="594360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70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, in your group of 4, share your sent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, use your sentences to help you write a paragraph connecting ALL of the words be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hotosynthesis, reaction, sugar, sun, water, carbon dioxide, oxygen, products, reactants, pl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**Have one person write and email the paragraph to the group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**This is like your “best guess.”  No looking up anything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 speaker for your group (cannot be the writer) and share your paragraph when I call on your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ab the “P-R Worksheet” document in Moodle and open in Not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12193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rst, draw a symbol to represent each item in the gri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xt, cut each item out, using the scissors, and put on the correct side of the tree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69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***Think about what you already know about plant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1905120" y="3352680"/>
            <a:ext cx="6095880" cy="1752840"/>
            <a:chOff x="1905120" y="3352680"/>
            <a:chExt cx="6095880" cy="1752840"/>
          </a:xfrm>
        </p:grpSpPr>
        <p:sp>
          <p:nvSpPr>
            <p:cNvPr id="101" name="TextBox 3"/>
            <p:cNvSpPr/>
            <p:nvPr/>
          </p:nvSpPr>
          <p:spPr>
            <a:xfrm>
              <a:off x="5715000" y="3428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ES 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Box 5"/>
            <p:cNvSpPr/>
            <p:nvPr/>
          </p:nvSpPr>
          <p:spPr>
            <a:xfrm>
              <a:off x="1905120" y="3428640"/>
              <a:ext cx="19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OES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Picture 4" descr="MC900434841[1]"/>
            <p:cNvPicPr/>
            <p:nvPr/>
          </p:nvPicPr>
          <p:blipFill>
            <a:blip r:embed="rId1"/>
            <a:stretch/>
          </p:blipFill>
          <p:spPr>
            <a:xfrm>
              <a:off x="3809880" y="3352680"/>
              <a:ext cx="1914480" cy="17528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4" name="Straight Arrow Connector 6"/>
          <p:cNvCxnSpPr/>
          <p:nvPr/>
        </p:nvCxnSpPr>
        <p:spPr>
          <a:xfrm>
            <a:off x="3809520" y="5257440"/>
            <a:ext cx="160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ext book page 94 and answer the questions on your work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emical Equation for Photosynth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080" y="2133360"/>
            <a:ext cx="883908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+ water + light energy </a:t>
            </a:r>
            <a:r>
              <a:rPr b="1" lang="en-US" sz="27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ucose + oxygen</a:t>
            </a:r>
            <a:br>
              <a:rPr sz="30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hoto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l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combining parts to make some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combining water and carbon dioxide (with the help of the sun) to make suga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066680" y="3276720"/>
            <a:ext cx="2667240" cy="459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334120" y="3276720"/>
            <a:ext cx="2666880" cy="459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Straight Arrow Connector 6"/>
          <p:cNvCxnSpPr/>
          <p:nvPr/>
        </p:nvCxnSpPr>
        <p:spPr>
          <a:xfrm>
            <a:off x="3733560" y="3506400"/>
            <a:ext cx="1600920" cy="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ortance of Photosynthes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M403_12C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3500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66720" y="13716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FO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duces food for almost all organis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103400" indent="-533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– Can you think of a food that is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somehow traced back to a pla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“FRESH” A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ves carbon dioxide from, and adds oxygen to, the atmosphe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00:44:06Z</dcterms:created>
  <dc:creator>jcms student</dc:creator>
  <dc:description/>
  <dc:language>en-US</dc:language>
  <cp:lastModifiedBy>User</cp:lastModifiedBy>
  <cp:lastPrinted>2012-12-05T22:03:24Z</cp:lastPrinted>
  <dcterms:modified xsi:type="dcterms:W3CDTF">2013-11-01T16:31:58Z</dcterms:modified>
  <cp:revision>83</cp:revision>
  <dc:subject/>
  <dc:title>Photosynthesis and Respiration</dc:title>
</cp:coreProperties>
</file>